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0C3215-72A8-4091-B80F-FC91762297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808C-2FC0-402C-8D71-7D1521ED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691B-7E22-47A7-A6A7-75801E9E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8B9-3478-4536-B1AE-EB824869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223-0403-4540-8641-F8A0C38B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8023-AABC-4CEB-B202-FF3DA9B4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C37-CC14-4D70-B607-19BB87E4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6DA7-A23C-4708-B7A6-C222960B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D521-DD01-4F00-BA8C-B657D2B0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1CA-38EA-45FA-A3AD-314B9276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9D8-21B5-4D7B-8A5D-5CDAD053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1F66-5370-40D9-A9A7-D5389786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87D-3B61-4C8F-AE12-D8A689BB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CEABB6-20AD-4C23-9F71-1E3D46BAE3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00"/>
                </a:solidFill>
                <a:latin typeface="Arial"/>
              </a:rPr>
              <a:t>¿Qué construye una ciud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581280"/>
            <a:ext cx="91440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99cc00"/>
                </a:solidFill>
                <a:latin typeface="Arial"/>
              </a:rPr>
              <a:t>Forma </a:t>
            </a:r>
            <a:r>
              <a:rPr b="0" lang="en-GB" sz="4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GB" sz="4800" spc="-1" strike="noStrike">
                <a:solidFill>
                  <a:srgbClr val="99cc00"/>
                </a:solidFill>
                <a:latin typeface="Arial"/>
              </a:rPr>
              <a:t>Fun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533520"/>
            <a:ext cx="4114800" cy="2438280"/>
            <a:chOff x="380880" y="533520"/>
            <a:chExt cx="4114800" cy="2438280"/>
          </a:xfrm>
        </p:grpSpPr>
        <p:sp>
          <p:nvSpPr>
            <p:cNvPr id="52" name=""/>
            <p:cNvSpPr/>
            <p:nvPr/>
          </p:nvSpPr>
          <p:spPr>
            <a:xfrm>
              <a:off x="380880" y="533520"/>
              <a:ext cx="4114800" cy="2438280"/>
            </a:xfrm>
            <a:prstGeom prst="wedgeRoundRectCallout">
              <a:avLst>
                <a:gd name="adj1" fmla="val -10879"/>
                <a:gd name="adj2" fmla="val 7063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5800" y="762120"/>
              <a:ext cx="3429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La ordenación espacial y forma física de una ciudad.  Podéis verlo usando mapas de Goog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800600" y="533520"/>
            <a:ext cx="3886200" cy="2438280"/>
            <a:chOff x="4800600" y="533520"/>
            <a:chExt cx="3886200" cy="2438280"/>
          </a:xfrm>
        </p:grpSpPr>
        <p:sp>
          <p:nvSpPr>
            <p:cNvPr id="55" name=""/>
            <p:cNvSpPr/>
            <p:nvPr/>
          </p:nvSpPr>
          <p:spPr>
            <a:xfrm>
              <a:off x="4800600" y="533520"/>
              <a:ext cx="3886200" cy="2438280"/>
            </a:xfrm>
            <a:prstGeom prst="wedgeRoundRectCallout">
              <a:avLst>
                <a:gd name="adj1" fmla="val -15643"/>
                <a:gd name="adj2" fmla="val 7369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57800" y="990720"/>
              <a:ext cx="3124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Los trabajos que cada una de las partes de una ciudad hacen para que ésta func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85800" y="51055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8000"/>
                </a:solidFill>
                <a:latin typeface="Arial"/>
              </a:rPr>
              <a:t>¿Qué ocurre en la forma y función de una ciudad para que sea diferente al resto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3581280"/>
            <a:ext cx="91440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99cc00"/>
                </a:solidFill>
                <a:latin typeface="Arial"/>
              </a:rPr>
              <a:t>Forma </a:t>
            </a:r>
            <a:r>
              <a:rPr b="0" lang="en-GB" sz="4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GB" sz="4800" spc="-1" strike="noStrike">
                <a:solidFill>
                  <a:srgbClr val="99cc00"/>
                </a:solidFill>
                <a:latin typeface="Arial"/>
              </a:rPr>
              <a:t>Fun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0880" y="990720"/>
            <a:ext cx="4114800" cy="1930320"/>
            <a:chOff x="380880" y="990720"/>
            <a:chExt cx="4114800" cy="1930320"/>
          </a:xfrm>
        </p:grpSpPr>
        <p:sp>
          <p:nvSpPr>
            <p:cNvPr id="60" name=""/>
            <p:cNvSpPr/>
            <p:nvPr/>
          </p:nvSpPr>
          <p:spPr>
            <a:xfrm>
              <a:off x="380880" y="990720"/>
              <a:ext cx="4114800" cy="1930320"/>
            </a:xfrm>
            <a:prstGeom prst="wedgeRoundRectCallout">
              <a:avLst>
                <a:gd name="adj1" fmla="val -10879"/>
                <a:gd name="adj2" fmla="val 70638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1173240"/>
              <a:ext cx="3429000" cy="1572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iseño planifi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recimiento orgán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800600" y="990720"/>
            <a:ext cx="3886200" cy="1981080"/>
            <a:chOff x="4800600" y="990720"/>
            <a:chExt cx="3886200" cy="1981080"/>
          </a:xfrm>
        </p:grpSpPr>
        <p:sp>
          <p:nvSpPr>
            <p:cNvPr id="63" name=""/>
            <p:cNvSpPr/>
            <p:nvPr/>
          </p:nvSpPr>
          <p:spPr>
            <a:xfrm>
              <a:off x="4800600" y="990720"/>
              <a:ext cx="3886200" cy="1981080"/>
            </a:xfrm>
            <a:prstGeom prst="wedgeRoundRectCallout">
              <a:avLst>
                <a:gd name="adj1" fmla="val -15643"/>
                <a:gd name="adj2" fmla="val 73717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57800" y="1219320"/>
              <a:ext cx="3124080" cy="1572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Zonific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ezcla de u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-360" y="3581280"/>
            <a:ext cx="853452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99cc00"/>
                </a:solidFill>
                <a:latin typeface="Arial"/>
              </a:rPr>
              <a:t>Planificada </a:t>
            </a:r>
            <a:r>
              <a:rPr b="0" lang="en-GB" sz="4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GB" sz="4800" spc="-1" strike="noStrike">
                <a:solidFill>
                  <a:srgbClr val="99cc00"/>
                </a:solidFill>
                <a:latin typeface="Arial"/>
              </a:rPr>
              <a:t>V  Orgán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80880" y="533520"/>
            <a:ext cx="4119840" cy="2922480"/>
            <a:chOff x="380880" y="533520"/>
            <a:chExt cx="4119840" cy="2922480"/>
          </a:xfrm>
        </p:grpSpPr>
        <p:sp>
          <p:nvSpPr>
            <p:cNvPr id="67" name=""/>
            <p:cNvSpPr/>
            <p:nvPr/>
          </p:nvSpPr>
          <p:spPr>
            <a:xfrm>
              <a:off x="380880" y="533520"/>
              <a:ext cx="4119840" cy="2867040"/>
            </a:xfrm>
            <a:prstGeom prst="wedgeRoundRectCallout">
              <a:avLst>
                <a:gd name="adj1" fmla="val -10879"/>
                <a:gd name="adj2" fmla="val 7063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5800" y="801720"/>
              <a:ext cx="34336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Un plan se hace antes de que se construya. Hay muchas “ciudades ideales” y partes de esas ciudades se han construido en base a un “Plan General”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800600" y="533520"/>
            <a:ext cx="4200480" cy="2827080"/>
            <a:chOff x="4800600" y="533520"/>
            <a:chExt cx="4200480" cy="2827080"/>
          </a:xfrm>
        </p:grpSpPr>
        <p:sp>
          <p:nvSpPr>
            <p:cNvPr id="70" name=""/>
            <p:cNvSpPr/>
            <p:nvPr/>
          </p:nvSpPr>
          <p:spPr>
            <a:xfrm>
              <a:off x="4800600" y="533520"/>
              <a:ext cx="4200480" cy="2827080"/>
            </a:xfrm>
            <a:prstGeom prst="wedgeRoundRectCallout">
              <a:avLst>
                <a:gd name="adj1" fmla="val -18208"/>
                <a:gd name="adj2" fmla="val 5670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94160" y="1063800"/>
              <a:ext cx="33768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La ciudad crece y cambia según las necesidades de cada época. Hay pocas evidencias de un planeamiento “lógico”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85800" y="51055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8000"/>
                </a:solidFill>
                <a:latin typeface="Arial"/>
              </a:rPr>
              <a:t>La mayoría de ciudades tiene una mezcla de crecimiento orgánico y planifi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14400" y="3581280"/>
            <a:ext cx="784872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Arial"/>
              </a:rPr>
              <a:t>Zonificación     V</a:t>
            </a:r>
            <a:r>
              <a:rPr b="0" lang="en-GB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99cc00"/>
                </a:solidFill>
                <a:latin typeface="Arial"/>
              </a:rPr>
              <a:t>   Mezcla de u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4920" y="380880"/>
            <a:ext cx="4114800" cy="3095640"/>
            <a:chOff x="304920" y="380880"/>
            <a:chExt cx="4114800" cy="3095640"/>
          </a:xfrm>
        </p:grpSpPr>
        <p:sp>
          <p:nvSpPr>
            <p:cNvPr id="75" name=""/>
            <p:cNvSpPr/>
            <p:nvPr/>
          </p:nvSpPr>
          <p:spPr>
            <a:xfrm>
              <a:off x="304920" y="380880"/>
              <a:ext cx="4114800" cy="2671920"/>
            </a:xfrm>
            <a:prstGeom prst="wedgeRoundRectCallout">
              <a:avLst>
                <a:gd name="adj1" fmla="val -10879"/>
                <a:gd name="adj2" fmla="val 7063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480" y="631800"/>
              <a:ext cx="342900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La ciudad se encuentra dividida en distintas áreas.  Cada zona contiene diferentes funciones para la ciu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800600" y="685800"/>
            <a:ext cx="3886200" cy="1447920"/>
            <a:chOff x="4800600" y="685800"/>
            <a:chExt cx="3886200" cy="1447920"/>
          </a:xfrm>
        </p:grpSpPr>
        <p:sp>
          <p:nvSpPr>
            <p:cNvPr id="78" name=""/>
            <p:cNvSpPr/>
            <p:nvPr/>
          </p:nvSpPr>
          <p:spPr>
            <a:xfrm>
              <a:off x="4800600" y="685800"/>
              <a:ext cx="3886200" cy="1447920"/>
            </a:xfrm>
            <a:prstGeom prst="wedgeRoundRectCallout">
              <a:avLst>
                <a:gd name="adj1" fmla="val -15643"/>
                <a:gd name="adj2" fmla="val 7369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57800" y="822240"/>
              <a:ext cx="3124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odas las funciones de la ciudad están mezcladas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900000" y="456084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8000"/>
                </a:solidFill>
                <a:latin typeface="Arial"/>
              </a:rPr>
              <a:t>La mayoría de ciudades tiene una mezcla de crecimiento orgánico y planificado . Las ciudades y las ideas cambian con el tiemp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23440"/>
            <a:ext cx="8610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99cc00"/>
                </a:solidFill>
                <a:latin typeface="Arial"/>
              </a:rPr>
              <a:t>¿Cuáles son las funciones en una ciu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80010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Viv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Comercio y nego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Entretenimiento / 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Educación / aprendiz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Infraestructuras de comun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Salud y biene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Servi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Fábricas / indus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00"/>
                </a:solidFill>
                <a:latin typeface="Arial"/>
              </a:rPr>
              <a:t>¿Qué es una ciudad sosten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80010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Viv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Comercio y nego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Entretenimiento / 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Educación / aprendiz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Infraestructuras de comun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Salud y biene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Servi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Fábricas / indus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Lashley</dc:creator>
  <dc:description/>
  <dc:language>en-US</dc:language>
  <cp:lastModifiedBy> Pedropozo</cp:lastModifiedBy>
  <cp:revision>0</cp:revision>
  <dc:subject/>
  <dc:title>What makes a City?</dc:title>
</cp:coreProperties>
</file>